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202-D811-4E7E-9FDA-5E1324D1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938-8457-41BC-95FC-E2AA41D8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AC6F0-E4D8-4035-AB83-5FB4F8E0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73E5B-206C-4121-B58B-38D328D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6C867-D9E2-441A-AB76-8C0E3021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2AC1-9794-4AF2-B1A5-8365483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AA653-184B-4732-9FDB-CADBF27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265F-4D98-4288-9B7D-3865898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0D59-D40C-421A-BD75-851B11E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F1A6-77C5-478C-83B4-F0BF77DD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758F7-DEB5-4B84-A6B9-8699536D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770DE-56C9-4CBB-B54A-3F1E05A8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C27-9731-4D0F-8FF9-7EE29283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AC51E-BAE3-4830-9B9E-C3EA208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B5391-CEB5-452F-9ED5-D0D91229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74C7-7BED-432A-8672-31C391E9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6C6CE-0954-43DC-ADFB-AB60BC9C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C6E45-0934-4071-8FDF-D95FBA0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8F2CC-551B-4683-8F16-2CD29C41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5AF5E-1798-4BF6-A882-1A65EB2F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FE4FF-E4F0-4A8A-ADCD-EF6CC28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788FD-1D2D-4066-B1A2-BE11EF02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7602-565C-4270-9CE3-B32AE4FC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CA8-EE3E-487A-BF58-D586BB84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C02C-CA37-41E3-92B7-E2D4246A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2A3B3-2B3F-46B0-AAAF-402E3D09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16FBC-51D9-48AF-9770-6A32097D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E1A3-816A-4C07-BE5D-7E18DC46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90000-15C0-42C8-A4DC-55C37376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E70FE-8DB7-486E-940E-C29649C6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2E49C-DE6D-423E-B194-69DE022D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3CBBF-CDE1-47ED-BD95-BDD796C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C48C-3BCB-4F82-BDE5-3C5896B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F9ED-6B56-4F42-B3ED-8C890701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29E6-2834-4B24-B350-05EED30E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C1F8E-8180-4287-B243-2EBB284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7BFA9-6489-4DF1-B10C-7A3F463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551C3-401B-49F2-A9CF-73498560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0068C-37EA-41DE-A0F7-B2A68DFF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37EB1-0B26-4099-B99F-BB39DAEE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873BD-667C-43DE-8978-077B8E2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8BB19-731C-4108-A6F1-AE5E8E6C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C7097-9AD2-4293-9898-69133908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983BF-02EE-4940-A032-3B49295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A6F70-CF3C-4D2B-9F3E-E85087F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A87-F9DE-42D5-84E4-5E3BF10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5F525-2FEB-4354-8BE2-247BCE8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FF202-E7CE-4EE5-B0F5-F27CB756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FE2EB-D253-4B64-895A-BE9F11C7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F1680-8727-4E14-B687-24A53197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997F2-5E61-43CE-821E-55D1060F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E3EAD-1ABD-4B4B-A6C8-8DCB8DCF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F3D58-C582-4113-8EA6-442E9559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C0060-0DCA-4DE0-BEDC-A6542F9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9D3AD-5FC2-4870-BC81-3AE1A1D2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1A872-F0F7-4529-B82C-1640872C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81A0-E38D-4AD3-B607-44973CC1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D369E-5072-4D3C-A8B8-21C3DE6E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212E7-E064-410E-83C0-69E44D5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530C3-90C7-43E6-A958-787AAE2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6C092-EA53-43E6-85CA-F1DEDA76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F52D3-D138-43E7-A47A-755EC515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7573B-0E03-4996-A071-3B971DD2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07921-B13C-4D0B-8078-9A06424F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4D576-12F3-479B-A231-1F44B479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FB5EC-AF8F-4337-A722-5C2FF11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0367A-499E-4AED-82D7-E908133A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3961-5B9D-44E6-8C3C-2CC3877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1D1C0-688D-4E52-887B-AF64A0AF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1C888-2FBB-4826-B5E7-77CB157D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BD662-97E6-49E0-BA35-25192756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7B17A-26C2-4E87-8B73-51B7B65E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7925E-C2EC-40F3-8828-B4CC1A1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5CA52-5B62-4CE7-86D7-A5FE30E3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C9AA1-D731-4DB6-ABCC-3687ED22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B2C45-45C0-412F-9C33-4EAEF05A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63459-DD48-4E9B-9D5E-4E55AC24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ADF3E-D347-45C4-B6E4-CBA57743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D738-70F0-498B-8851-8A836053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A3865-D487-41CC-9FAC-8B145F4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D7FB5-1171-435B-B443-CB6039EC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917E0-68BA-4F3D-80BC-920F740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4AD80-5CAD-41E7-B263-5D499AF5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304EC-05DF-469C-B569-9A81171A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8FAB1-0075-4700-928A-7411B07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D2615-7853-4257-99BE-A2E9CC6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BD1BA-5107-44CC-9B17-7290F19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333F4-F6CA-4BF2-B80A-8BC550F8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BD2FF-124F-40C3-97B8-8CD1015F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F17-1CD1-4E64-929E-6B4CFFF6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224D8-4F1C-426E-8D17-6A277BBC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15B86-AF37-404F-8D3F-EF57AA7B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52712-39B4-49A9-B564-3E813AB2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E44B3-1EE2-4AAA-8381-DAB798D9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27D68-9185-47F1-8422-F832523E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2C056-B445-4B8C-BBA4-CCC76C10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677E5-6CBA-411D-8BA6-FB1B399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9263D-61C8-4C7D-B40B-652218B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A2247-095D-4171-B8DB-90D5FBD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362FA-343D-48FD-836C-915DBA9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A362-099F-4877-A13C-809F26F4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CF4A5-1932-434D-9685-870C1276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85F9B-9097-4A73-8D38-294B69CD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09F48-A379-4DA4-9626-8CB01A8F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88AC2-FA57-436C-9A90-6A1A7FEB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72991-CAD5-44AD-B7B5-0A6DE9F3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76E26-4D90-44D7-8226-14D0B25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16D83-41CB-4788-9226-8B147141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05C33A-2A1B-4E07-8532-85F3B335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832019-A897-413A-97A8-39D51B4C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37513-F7BA-40F1-B54F-E4A20829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E09-DBF7-4CFA-AA15-853BBA0C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2D73-8D08-46D8-B324-8EDF046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A5225-3259-4098-B72E-A13AD3B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25E5E-6945-427B-8990-DDCF52BE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E2A89-A0B6-4964-B25A-76400EB0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F46CE-071E-4FB5-8746-38D06221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8F8F0-A74F-4BA6-BAF1-ABBAD145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383478-7359-4F0B-ACC2-2F22BDCB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67B9F-8AE6-48C5-8BB9-7B9981E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1865C-32F6-4759-B178-1596D54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0DB34-5F97-436C-A53E-69EC9E7E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090AE-363B-446F-91E3-65757CE4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DD32-B471-48E7-8DB5-51050CB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3E7B8-B39D-44D5-ADFA-34FD353A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6A581-FC4C-47DC-8D6A-F7EE198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CFAEFC-0220-4CDA-A52B-264BCF8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3BE84-3998-4F4E-B77C-8CD444E1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335CD-F055-4539-8E2A-FCA1CB7F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27A40-1410-449C-A990-71480E74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59B1C-A15E-44FC-B2C4-A0D2B68B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6E17A-5A88-4388-AD1E-FDB101E7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A12E8-8190-447D-9F02-A5C6D5D0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F4522-133F-47B6-B0EB-6299296F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8F93-3117-4BCD-9233-D367F75C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CE55C-FDD2-4676-8DD8-6FAC3295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C1B6E3-6353-446A-A66E-1CFBB694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EC299-16E0-46FD-B27B-7F6E7E1D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2B284-1D3B-448C-A2D1-05B8F177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60FFE-7E9D-4046-AC9F-86AEB53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A685A-4C6A-4581-AC9F-0128ACA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965B1-FCD3-4E53-AF9E-F2BEAC58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1DE0E-06E8-4661-BAA7-1F16F8F8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B1D55-B426-4593-9D72-A8848F1B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653BB-3228-49B4-95F1-2B1E9322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E465-DC6B-4FA5-979E-CA702AD9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9B35D-8A28-47DF-8E34-DC5D704F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B4FD04-51B0-48E8-92FC-5A3DB02C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103A43-2865-4305-9309-90AE0AD9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1B446-41D4-405F-9C1E-0DA4F39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D198D-55E1-4E4B-972B-5D3292E1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718F3-3D6C-442D-BFCE-FD35BF1D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4474D-E334-4505-AAC8-B6A9D653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F5A6E-BA79-4B67-AA65-9C7EC92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2D987-F638-493E-80E6-90FDD2CD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0998E-2CF1-42A5-94E1-1655E06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C1A5-48F3-4DC2-8B76-642E32AD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BA64E-C3D3-4591-90D7-FD8DB91B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99CFE-0C50-4012-8164-AD906BA7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AF6F3-F54B-46E8-831F-AD323FA4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4B81B-FF2B-47E4-B7AA-12F3A830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A6227-FE1D-4838-8B4F-99446C8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C1811-D492-454B-B045-CD86CEF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5B25F-FEB8-4F5B-9E6D-941D4B63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262CE-B594-4247-8D7E-E4BDAF9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880CE-D71E-4103-85DA-A031F856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B4C575-2C92-4104-B556-E3DD2370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16F1-BA42-4EB4-B08B-62BCEA2D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D8749-10BA-4DEE-A8C8-4F7FEB94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DCE2E-7DA3-425C-AE14-5ADD4606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39E02-039F-4C7A-9C2A-9BE73049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6CE64F-742C-4B6A-A39D-5A47C3D8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A968D4-C0CC-4B4B-850C-31B6D339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889CAB-68BE-47AA-A4B7-7889818B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C0DC24-8946-4A19-A318-BD31AA97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91363E-3904-4C56-838B-E3ED0CD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46CB76-0189-474F-A2B3-0553144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0BA62E-2C75-4854-A84F-AAFC031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4954-1056-45FA-B9D7-81AE4EF9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9E7BFD-9F0B-45EA-B153-E3EDBD6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CA05B7-8F05-48C8-956B-36643499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14183-4490-4A7F-88FA-2340BD4B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0A2984-A549-4A37-AFAB-0B2E8CED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E382C-94A5-4DFB-82B3-5EF31AB2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D6A21A-F464-45F4-8024-B68C1A19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9964B-FD79-4535-8C0B-92AB3D25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2C879F-68BD-4BAA-9A58-A1761233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3F687-8D53-4BAB-9973-0085D555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4AD872-CE4C-4216-9C30-4E71B87F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E584-CD48-4DBB-BC8D-1C3CDC52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4BF506-5825-4894-B16C-57DDDEC5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72C69-BB83-4F00-BAA1-AA93606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2BD041-ACDF-470F-B77C-4D52869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C98583-196B-4118-BCCC-A05AEDBA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0F85B2-FE00-4BB4-93B6-633C95BB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DD0DE0-2FFD-4A8B-8E37-4681324F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510D7-EB0F-4136-9886-20DEDEA4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DFC5-6BA0-4549-9B42-AA6305E0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F895-F769-40D5-B3CE-6941850C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228-8A98-4FF7-8DF1-53C5AE6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A895-5B1F-4E4E-B7FC-C56BB68E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F3BF-DFA6-4283-A04B-D13B7DB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5971-F035-4AB5-B4E1-CD98F94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6C91-0145-4F6D-B224-B7781D0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5CF0-41AF-41FD-B3E4-C6667375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F5F5B-7B96-45AE-9711-C52D054A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3335-78E9-4160-AD1E-322F80B6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2318-A533-48A7-AECB-59E8E006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E677-D267-46BB-841A-BD11E1FB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212E-9EB8-48AC-87CF-C9CA899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DB4-1DE4-409E-888C-6EB4894F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22C4-E21B-4676-95FD-CEBCB0F2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88E5-A3A9-4054-9E58-8E588A47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4DA8-83D0-45D2-BCD7-D2FAEBF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E94D-3AE0-4E2F-8E7E-5B9EC30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D5F6-FECE-47B2-ADE0-DED7AEF3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AD4B-BB96-42F9-B532-F618F3E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0033-44BE-48CA-B1D1-9CA1523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CED1-E1CA-4905-90D3-A188A1AD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786E-E0F6-4FED-B5CD-9868BD81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B362-7DB4-4E1C-896C-B1403BFD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1BF-0C2F-497D-8717-E86A0ED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D327E-180D-44EA-92A9-8B30E1FD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C4B42-9EF2-4639-9929-6E7EA357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A070-5F07-48C0-93D8-9F4A708D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E14F-ED54-4276-A953-D3931249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7E52-82BE-4186-929D-19226782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C589-0806-4009-A4AA-7137AFD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7885-B65A-4F53-876B-29785C6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61001-8B16-43BC-96C9-183FDD35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E39C-CA22-450E-A1AD-07580A1A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89814-4B3A-4B80-812D-04DB8A23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B0E-78DF-44D3-97E3-6A4259A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1B98-AEE8-4B2B-93C3-9E85EF41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61B6-435F-4FBC-814E-0D983B35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F1A2-EE8B-4E63-B0C9-53424D1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9B924-6D14-4B17-B4F7-9166EBA0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2F1AB-DB6C-493E-9005-34CE320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4AA9-6121-41F8-8B34-0C3BE06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908A-8F10-4871-8C2E-3A3A83A7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3247-DFEC-46A1-9809-2ABE0A9C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E21B-12CD-4150-A06C-327C0FD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4423-EDD5-4671-B286-8A9D76E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531-B16F-4E2F-ABF7-40C92FC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F41BA-41E7-47F2-8A06-3917B337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28EA-AF68-4170-B637-B9C60602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D5747-99D3-41C2-8031-494AACA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4F65A-AB64-4C74-A1B4-E01C7A4F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20CCA-DDD3-4E39-82D1-815E2DAB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141F-3AE4-49C6-A683-8C4EEE81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83237-AF69-4496-A4F5-931EF91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28B28-05C1-47EF-8CA2-87347C13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2855C-C171-467A-BF3E-AF74AD58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D28C-C9EF-418C-B25D-B0D6404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6EA-82F5-414C-9F98-1DED79B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D137B-5EB0-46CC-838E-73580D1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94C2-1DAF-4953-A809-1559107E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820B4-9E6E-443F-AEEF-3E9D9C3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7BC3-52CE-4752-93A5-5F4827B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785AB-6A75-4DD1-A1B9-B8D8A84C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807B-1E59-4AD9-9D89-2961DDF5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B3705-071F-405E-AB32-F4F90F42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0B99-53A7-4C18-81D5-9F5C1B7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49D64-4981-424B-A6BB-B6BDD6BD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E4E4-E56A-4970-95C2-139BF7D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E72-6C81-4DF8-AD3B-DD934659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AE79-B368-4A9F-9574-EB783729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816A-3CD3-4713-BAA0-B96F074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9377-1FA1-4365-BE90-A15E837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65CB1-8FC4-46AC-83DF-B70F2DE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9C115-631D-4D66-932B-15712EA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1861-AFA7-444A-8DC8-F5F26C6B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6C864-A7C0-4C06-87E0-9A05D201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E6F35-A8D6-43B3-BF92-7879FD2B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7B04D-53DF-4077-95B9-69A0AFE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43EE3-7749-4309-9CDA-66E78CA2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B60-C523-4FFA-A6BF-1534C5EA1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2539-4DF9-4BFB-AB33-626215C98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429-C930-4F26-901C-DC67C1EBC1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16F-0776-4BED-B3F2-40740588D4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96D1-CDFD-4AEC-8CAE-705822284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1EA0-E804-4E7E-A342-421A8E4AEE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384-7D33-40F6-B21C-8749ECDDD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4748-D3D6-425C-B6F0-C644CB6957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C10A-ACBA-4AAE-8DFC-470CC4900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21FE-FB5E-41EE-A4C3-16C5E24B7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C764-FAFC-402E-9BDD-E9CBF517A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3DF5-01A3-490B-BE9C-FE6F5489A4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7C3D-B6E3-4837-8D02-8FDDC942D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6E6A-3767-48B4-B8CC-4369D95D8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7A77-200E-46D6-93A5-9174A69A4E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D18A-1629-42CB-8F4A-A86901B50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941E-A6EB-4D94-A73E-868F119EC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C9A3-5399-4F08-A0A5-79A668AAE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CEC5-C2E5-410C-AB43-40808CCE2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CF77-E98D-448E-957C-4B8C679995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F11D-3037-49CE-B37D-F95CA062D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3E45-3D0E-4E5C-B0D4-E796340F42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44E-8B72-43CA-8F4F-FB2F1A57A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998D-36AD-4D13-92B1-E77C6F7EA2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A922-A5EC-4A9A-98C2-03FEC2E34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BCFC-6FFA-406D-9BCB-F081D6C822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CD0-BDBC-4084-AE00-6C3FDCA45D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EDDF-B492-4C71-AC6E-5195B9335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6AD6-7429-4697-8134-814713423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9F4-2BA2-4B15-8A3D-751EDE337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D33C-D168-4F7F-8DA3-6EF5B445F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940-E532-42B1-AD00-733E7D24F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346E-449D-43E8-9290-701FF05BC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6D1A-F37C-43A0-B4FE-4CEBC49A6A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143-FDF6-4ECC-B0AD-1FE0FA39D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2F50-A318-48BC-A5CF-55698E994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27A-CAAC-424E-9A58-BB0D6F1830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4E5E-060E-4CED-A3A7-C0CAC6E5B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30B8-A098-41B4-BEC0-AABAD8067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8D5F-DA71-4771-AACB-76E50CB55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65FF-31B5-4585-894C-A2B86C5C6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F84-25B6-46F0-916D-156A4000A6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43120" y="2862360"/>
            <a:ext cx="74577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71360" y="722160"/>
            <a:ext cx="1724040" cy="43848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115920" y="1246320"/>
            <a:ext cx="7513560" cy="144756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171360" y="2843280"/>
            <a:ext cx="8589960" cy="3657600"/>
          </a:xfrm>
          <a:prstGeom prst="rect">
            <a:avLst/>
          </a:prstGeom>
          <a:ln w="0">
            <a:noFill/>
          </a:ln>
        </p:spPr>
      </p:pic>
      <p:pic>
        <p:nvPicPr>
          <p:cNvPr id="1110" name="图片 4" descr=""/>
          <p:cNvPicPr/>
          <p:nvPr/>
        </p:nvPicPr>
        <p:blipFill>
          <a:blip r:embed="rId4"/>
          <a:stretch/>
        </p:blipFill>
        <p:spPr>
          <a:xfrm>
            <a:off x="7497720" y="88416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01760" y="1322280"/>
            <a:ext cx="358560" cy="292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468360" y="2852640"/>
            <a:ext cx="358560" cy="292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3924360"/>
            <a:ext cx="358560" cy="2919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468360" y="4724280"/>
            <a:ext cx="358560" cy="2923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468360" y="5805360"/>
            <a:ext cx="3585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10960" y="1717560"/>
            <a:ext cx="6886800" cy="3076560"/>
          </a:xfrm>
          <a:prstGeom prst="rect">
            <a:avLst/>
          </a:prstGeom>
          <a:ln w="0">
            <a:noFill/>
          </a:ln>
        </p:spPr>
      </p:pic>
      <p:pic>
        <p:nvPicPr>
          <p:cNvPr id="1117" name="图片 2" descr=""/>
          <p:cNvPicPr/>
          <p:nvPr/>
        </p:nvPicPr>
        <p:blipFill>
          <a:blip r:embed="rId2"/>
          <a:stretch/>
        </p:blipFill>
        <p:spPr>
          <a:xfrm>
            <a:off x="7176960" y="2462040"/>
            <a:ext cx="1505160" cy="19339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865080" cy="291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1879560" y="3357720"/>
            <a:ext cx="747720" cy="2919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2268360" y="3726000"/>
            <a:ext cx="747720" cy="2919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2627280" y="4076640"/>
            <a:ext cx="792360" cy="2923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7"/>
          <a:stretch/>
        </p:blipFill>
        <p:spPr>
          <a:xfrm>
            <a:off x="1619280" y="4456080"/>
            <a:ext cx="86508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01520" y="2068560"/>
            <a:ext cx="6381720" cy="323856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2" descr=""/>
          <p:cNvPicPr/>
          <p:nvPr/>
        </p:nvPicPr>
        <p:blipFill>
          <a:blip r:embed="rId2"/>
          <a:stretch/>
        </p:blipFill>
        <p:spPr>
          <a:xfrm>
            <a:off x="6926400" y="2301840"/>
            <a:ext cx="1866600" cy="27716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7308720" y="2349360"/>
            <a:ext cx="1366920" cy="2923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395280" y="301608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7308720" y="2944800"/>
            <a:ext cx="1366920" cy="2919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7"/>
          <a:stretch/>
        </p:blipFill>
        <p:spPr>
          <a:xfrm>
            <a:off x="395280" y="357336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8"/>
          <a:stretch/>
        </p:blipFill>
        <p:spPr>
          <a:xfrm>
            <a:off x="6804000" y="3502080"/>
            <a:ext cx="1871640" cy="2919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9"/>
          <a:stretch/>
        </p:blipFill>
        <p:spPr>
          <a:xfrm>
            <a:off x="395280" y="414972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10"/>
          <a:stretch/>
        </p:blipFill>
        <p:spPr>
          <a:xfrm>
            <a:off x="7308720" y="4078440"/>
            <a:ext cx="1366920" cy="2919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11"/>
          <a:stretch/>
        </p:blipFill>
        <p:spPr>
          <a:xfrm>
            <a:off x="395280" y="472428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12"/>
          <a:stretch/>
        </p:blipFill>
        <p:spPr>
          <a:xfrm>
            <a:off x="7308720" y="4653000"/>
            <a:ext cx="136692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00080" y="957240"/>
            <a:ext cx="8942400" cy="49435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1476360" y="205092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1763640" y="3222720"/>
            <a:ext cx="358920" cy="291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3851280" y="4321080"/>
            <a:ext cx="358920" cy="2923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6"/>
          <a:stretch/>
        </p:blipFill>
        <p:spPr>
          <a:xfrm>
            <a:off x="971640" y="5041800"/>
            <a:ext cx="35856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9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